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A66-9942-4B30-925F-ECE5F269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8904-30A3-424B-AF14-5F4FF2C2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00C-DA4E-473C-AF26-2128C4DA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A36-085C-44B6-957E-15901C68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893-0529-4CC5-B396-E2A0DD5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0A2-C604-4211-B538-141A2A8D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389-1866-46C5-9D2C-311B70CF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ED9-CA82-4A49-9ED4-AC850F0B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430-BF42-4C12-BB0F-5488CB3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4C8-F524-46A6-AB7D-7313AB4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344-D142-4BA3-9DB2-83AFBB9A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53B-F369-4BD5-AF9D-E168E5A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D8E-D9E7-4DF5-8706-3364526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B89-10DF-4B10-95E8-8A38906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2D4C-7A8D-42A9-AE9A-81EDF8D2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3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2:15Z</dcterms:modified>
  <cp:revision>118</cp:revision>
  <dc:subject/>
  <dc:title>Museum of World Stuff</dc:title>
</cp:coreProperties>
</file>